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2DA-CB53-4F40-BCBF-701ED11E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843-517F-4FA7-8902-E7C1D0E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4CA-9473-46B9-B364-277539B4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6B8-3242-4E4D-8930-9F027D16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1BC-C77B-402E-BC67-D887A78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9B8-1B10-4C4B-8ED1-E455A60B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09F-0A54-4E73-B1F3-4EAC7AB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15C-C5EA-4D66-9351-DFF8A33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097-41A8-4563-8662-1D660CCC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4D1-BA58-4A85-B2FD-D40491E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228-6DC8-455D-B97B-04BE8E67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08D-78D4-4E57-9732-502DE65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762-3A38-4479-BF6C-58BBA1A4C5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olife.ru/infos/news/373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банизация населени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33920" y="5409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Сметанин Миха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: 231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банизация, с одной стороны, улучшает условия жизни населения, с другой - приводит к вытеснению природных, естественных систем искусственными, загрязнению окружающей среды, повышению химической, физической и психической нагрузки на живые организмы.Крупный город изменяет почти все компоненты природной среды - атмосферу, растительность, почву, подземные воды, грунт и даже климат, а также электрическое, магнитное и другие физические поля Земли. Перепады температур, относительной влажности, солнечной радиации между городом и его окрестностями иногда соизмеримы с передвижением в естественных условиях на 20 град. По широте, причём изменение одних природных условий неизменно вызывает изменение других. По данным исследований, проведённых в Англии и США, большие города получают на 15% меньше солнечной радиации (и на 30% меньше ультрафиолетовых лучей в зимнее время), на 10% больше осадков, на 10% больше облачных дней, на 30% больше тумана летом и на 100% зимой. Съёмки из космоса дают сведения о физических полях, возникающих вокруг больших городов, в частн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3049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c4f2"/>
                </a:solidFill>
                <a:latin typeface="Arial Black"/>
              </a:rPr>
              <a:t>        </a:t>
            </a:r>
            <a:r>
              <a:rPr b="1" i="1" lang="en-US" sz="2400" spc="-1" strike="noStrike" u="sng">
                <a:solidFill>
                  <a:srgbClr val="e0c4f2"/>
                </a:solidFill>
                <a:uFillTx/>
                <a:latin typeface="Arial Black"/>
              </a:rPr>
              <a:t>ИСПОЛЬЗОВАННАЯ  ЛИТЕРАТУР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1.www.hmn.ru/index.php?index=14&amp;value=1&amp;page=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olife.ru/infos/news/373/</a:t>
            </a: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3. ecoportal.ru/news.php?id=360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c4f2"/>
                </a:solidFill>
                <a:latin typeface="Arial"/>
              </a:rPr>
              <a:t>4. ww.souz.co.il/news/read.html? warticle=600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ополагающий вопрос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лияет ли рост городов на экологию пла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роблемные вопросы</a:t>
            </a:r>
            <a:r>
              <a:rPr b="0" i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ак влияет рост городов на экологию пла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2) Как распад СССР отразился на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) сколько времени осталось жить Русской дерев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банизация населения - процесс повышения роли городов в развитии общества. Предпосылки урбанизации – рост в городах промышленности, развитие их культурных и политических функций, углубление территориального разделения труда. Для урбанизации  характерны приток в города  сельского населения и возвращающее маятниковое движение населения из сельского окружения и близ лежащих малых городов в крупные города( на работу, по культурно - бытовым надобностям и пр..) Процесс  обратный урбанизации называется  рурализац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666880" y="609480"/>
            <a:ext cx="30434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ислов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b8fe"/>
                </a:solidFill>
                <a:latin typeface="Arial Black"/>
              </a:rPr>
              <a:t>          </a:t>
            </a:r>
            <a:r>
              <a:rPr b="1" lang="en-US" sz="3200" spc="-1" strike="noStrike" u="sng">
                <a:solidFill>
                  <a:srgbClr val="c2b8fe"/>
                </a:solidFill>
                <a:uFillTx/>
                <a:latin typeface="Arial Black"/>
              </a:rPr>
              <a:t>Сель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ьское расселение возникло с развитием земледелия. В настоящее время более половины населения мира живет в сельской местности. Сельских населенных пунктов насчитывается 15-20 млн. Они различны по величине, форме, специализации хозяй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две формы сельского рассел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ая (деревенская) - наиболее характерна для стран Центральной и Южной Европы, России, Японии, а также для большинства развивающихся стран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еянная (ферма) - наиболее распространены в США, Канаде, Австралии, странах Северной Евро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айонах кочевого скотоводства постоянные поселения вообще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c5bc"/>
                </a:solidFill>
                <a:latin typeface="Arial Black"/>
              </a:rPr>
              <a:t>          </a:t>
            </a:r>
            <a:r>
              <a:rPr b="1" i="1" lang="en-US" sz="3200" spc="-1" strike="noStrike" u="sng">
                <a:solidFill>
                  <a:srgbClr val="fac5bc"/>
                </a:solidFill>
                <a:uFillTx/>
                <a:latin typeface="Arial Black"/>
              </a:rPr>
              <a:t>Городское 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ое расселение. Города возникли в древности в междуречье Тигра и Евфрата, а затем в низовьях и дельте Нила как центры административной власти, торговли и ремесла. С развитием индустрии в них концентрировалось промышленное производство, формировалась инфраструктура, развивались транспортные связи. Города постепенно становились центрами притяжения для всей окружающей территории, возрастала их роль в территориальной организации хозяйства. Сегодня функции крупных городов расширились. Они являются промышленными, культурными, научными, административными центрами, транспортными узлами. Большинство городов - многофункциональные. Однако есть города, имеющие "специализацию", - однофункциональные. К ним относятся горнопромышленные центры, города-курорты, научные центры, некоторые столиц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города в разных странах различно. Например, в США городом считается поселение свыше 2,5 тыс. человек, в Индии - свыше 5 тыс., Нидерландах - 20 тыс., Японии - 30 тыс., а в Швеции, Дании, Финляндии - лишь более 200 человек. В России учитывается не только число жителей, но и показатель занятости населения (промышленность, сфера обслуживания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размещение населения все более определяется географией городов, они постепенно становятся основной формой расселения люд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Жизнедеятельность населения в условиях урбаниз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римере России урбанизация рассматривается как решающий фактор развития цивилизации и размещения населения на Земле. Показано расслоение городского населения, влияющее на демографическую и социальную структуру жителей города, мораль и ценностные ориентации. Рассмотрено влияние урбанизации (всегда сопровождающейся жилищным кризисом в городах) на среду обитания населения. Показаны основные отрицательные факторы урбанизации: экологические проблемы (загрязнение городской среды, рост плотности застройки, уменьшение площади зеленых насаждений и др.), деструктивное влияние на человека (здоровье, эмоциональный дискомфорт и стресс у жителей, психические перегрузки, приводящие человека к отчуждению от городской среды). Рассмотрена возможность будущей дезурбанизации за счет развития средств связи, телекоммуникаций и интерн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номен урбанизации имеет как положительные так и отрицательные моменты; Частные и региональные проблемы вполне решаемы при современном развитии науки и техники, но трудно разрешимы с позиции политики, законодательства и экономики. Добрая воля и активная жизненная позиция людей способна подвигнуть решение многих пробл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ременные уровни энергообеспечения и представленные альтернативные источники не способны решить современные потребности человечества в энергии. Тому было много примеров. Наиболее актуальным путём является активный поиск новейших технологий утилизации прямых и опосредованных энергий Солнца. За этим стоит будущее энергетики. Атомная энергетика не должна быть главенствующей, т. к. несет в себе много негатив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современном уровне потребления ёмкость нашей среды подходит к рубежной планке. Природа имеет свои рычаги самосохранения и человечество ждут серьёзные испытания. Один из путей решения этой проблемы - переход на ресурсосберегающие технологии, создание государственных программ по демографии, поиск альтернативных источников сырья и 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53352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банизация и климатические изменения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блема урбанизации стала для жителей Земли злободневной. Человечество достигло в своем развитии такого уровня потребления ресурсов и энергии, что экосистема планеты Земля может не выдержать такого да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ы не случилось катастрофы, люди должны успеть урегулировать отношения планета - человек. Человек - это вид биологический и социаль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особ его существования на Земле - общество и сообщество. Люди живут в посёлках, малых и больших городах. Стремление к скоплению тоже не должно быть бесконечным. Если обратить внимание на график кривой нормального распределения, который описывает закон оптимума, то будет понятно, что, увеличение населения на ограниченных территориях приведёт к критическим условиям. Гиперконцентрация населения в крупных городах и мегаполисах свидетельствует о том, что ситуация уже носит критический характер, т. к. ресурсов и энергии явно на всех не хватает. Выход из этой ситуации нужно искать всем вместе. Работы секций нам осветят частные проблемы и пути их ре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47920" y="838080"/>
            <a:ext cx="6124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банизация и ее 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 представляет собой особый мир, особую среду обитания человека - городскую среду. Это сложное образование, продукт взаимодействия природы и человеческой деятельности. Расширяясь, города сливаются друг с другом, образуя агломерации. В результате чрезмерного разрастания городских агломераций появились гиперурбанизированные районы, которые известны как мегаполи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аимосвязь всех компонентов и явлений городской среды позволяет говорить о ней как об урбосистеме. Урбоэкосистемы соотносятся с конкретным местом в географическом пространстве. В жизни урбосистемы велика роль временного фактора. Урбосистемы - это системы открытые, вероятноятные, управляемые. Важной особенностью урбосистем является их антропоцентр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ские экосистемы гетеротрофны, т. к. доля солнечной энергии, фиксированная городскими растениями или солнечными батареями, расположенными на крышах домов, незначительна. Основные источники энергии для жизни города - это сжигаемые органические энергоносители (нефть, газ, уголь), а также гидро- и атомные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электростанци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</dc:creator>
  <dc:description/>
  <dc:language>en-US</dc:language>
  <cp:lastModifiedBy>Admin</cp:lastModifiedBy>
  <dcterms:modified xsi:type="dcterms:W3CDTF">2009-12-26T08:26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